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D07-6958-4C6C-B344-C8ECC0DD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768-29D5-47F3-80DA-0F667230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DC4-95F2-4F2A-9313-2FC9EEC8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FFB-D532-489B-825A-14F3E142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340-325D-4058-88F6-C8E21E3D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37B5-EC89-4CCF-A323-774D1C41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58F-1D28-45EE-A05D-87224924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D79-6B71-46DC-9087-363457B0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CD3-04BB-4EB8-A795-C8D4C2AA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4A23-1DC8-470F-A61D-A1114C78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9F1-DE13-4A58-AA9C-36DC6D07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8CF-8870-4BA5-9CD9-922F62BB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ADCD-D737-4945-91EB-959F6C193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Science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elco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room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quality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use numbers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nventions (spelling, punctuation, sentences, paragrap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4338680000[1]"/>
          <p:cNvPicPr/>
          <p:nvPr/>
        </p:nvPicPr>
        <p:blipFill>
          <a:blip r:embed="rId1"/>
          <a:stretch/>
        </p:blipFill>
        <p:spPr>
          <a:xfrm>
            <a:off x="3886200" y="990720"/>
            <a:ext cx="5105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quired Supp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green duo-tangs (Notebook, Journal, Lab Not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harpened penc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cray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sharp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Un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’s C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tures an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systems &amp;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st Wee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 – Half Clas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 – Quiz, Journal, &amp; Mini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Tuesday, Friday – “Regular”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Not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and use clas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name the parts of “Scientific Inqui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lan a an activity using “Scientific Inqui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9:38:08Z</dcterms:created>
  <dc:creator>nbdoe</dc:creator>
  <dc:description/>
  <dc:language>en-US</dc:language>
  <cp:lastModifiedBy>Terry, Sean J. (ASD-E)</cp:lastModifiedBy>
  <dcterms:modified xsi:type="dcterms:W3CDTF">2016-01-24T19:30:16Z</dcterms:modified>
  <cp:revision>28</cp:revision>
  <dc:subject/>
  <dc:title>Slide 1</dc:title>
</cp:coreProperties>
</file>